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1360" y="635040"/>
            <a:ext cx="77212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99120" y="16020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 </a:t>
            </a:r>
            <a:fld id="{C539BA73-A625-450F-A950-6D41C9A8BAB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877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 of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ing income versus cash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and E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1120" y="809640"/>
            <a:ext cx="77058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nancial Statements,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sh Flow, and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net operating working capital (NOWC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1760" y="365760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($7,282 + $632,160 + $1,287,3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($524,160 + $489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913,04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93,8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4560" y="257796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53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capital used i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26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WC + Net fixed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913,042 + $939,7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852,83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3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9920" y="340668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9920" y="515952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9920" y="2057400"/>
            <a:ext cx="2100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89948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d the expansion create additional net operating profit after taxes (NOPAT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 = EBIT(1 - Tax ra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1 - 0.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0.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14,33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25,4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your initial assessment of the expansion’s effect o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834,4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,432,0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$414,33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46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913,04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793,8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capit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852,83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13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2743200"/>
            <a:ext cx="1981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2743200"/>
            <a:ext cx="1828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5040" y="711360"/>
            <a:ext cx="7873920" cy="16938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company’s expansion have on its net cash flow and operating cash f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9360" y="262584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I + D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519,9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02,9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" y="3500280"/>
            <a:ext cx="821052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r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87,960 + $18,90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6,8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9360" y="4103640"/>
            <a:ext cx="8210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PAT + D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297,3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8560" y="541980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25,460 + $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44,3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as the free cash flow (FCF)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CF = NOPAT - Net capital invest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($1,852,832 - $1,138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$714,23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1,128,568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you suppose investors reac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5040" y="711360"/>
            <a:ext cx="7873920" cy="2108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2560" y="804960"/>
            <a:ext cx="77058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company’s E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the firm’s after-tax cost of capital (COC) was 11% in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d 13% in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6000" y="3124080"/>
            <a:ext cx="6926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NOPAT- (COC)(Capi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(0.13)($1,852,8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$240,8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-$655,2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1040" y="5024520"/>
            <a:ext cx="739116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(0.11)($1,138,6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$125,2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$2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you co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at the expansion increased or decreased M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2640" y="3014640"/>
            <a:ext cx="743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=                         -              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2720" y="4267080"/>
            <a:ext cx="74199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the last year stock price has decreased 73%, so market value of equity has declined.  Consequently, MVA has decl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63560" y="2820960"/>
            <a:ext cx="282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ty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6880" y="2820960"/>
            <a:ext cx="26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4678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ably no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P increased 260% over the past year, while sales increased by only 70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is continues, suppliers may cut off trade credi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 pay its suppliers on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47880" y="3074760"/>
            <a:ext cx="7248240" cy="22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negative NOPAT shows that the company is spending more on it’s operations than it is taking 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it appear that the sales price exceeds the cost per unit so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lance Sheets:  Asse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676520"/>
          <a:ext cx="7619760" cy="4635360"/>
        </p:xfrm>
        <a:graphic>
          <a:graphicData uri="http://schemas.openxmlformats.org/drawingml/2006/table">
            <a:tbl>
              <a:tblPr/>
              <a:tblGrid>
                <a:gridCol w="3124080"/>
                <a:gridCol w="2133720"/>
                <a:gridCol w="304560"/>
                <a:gridCol w="2057400"/>
              </a:tblGrid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inv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7,3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6,8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4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2,9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: Dep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,7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sse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6,5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8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895480"/>
            <a:ext cx="79754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offers 60-day credit terms.  The improved terms are matched by its competitors, so sales remain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would each of these actions have on the cash ac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0600" y="5102280"/>
            <a:ext cx="6853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R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7600" y="1190520"/>
            <a:ext cx="77425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double as a result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credit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93480" y="2403000"/>
            <a:ext cx="6853320" cy="376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-run:  Inventory and fixed asset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meet increased sales.  A/R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, Cas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Company may have to seek additional financ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run:  Collections increase and the company’s 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75042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pansion was financed primarily with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ternal capit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issue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ich reduced its financial strength and flexibil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2560" y="80496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ow was the expansion finan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external capital have been required if they had broken even in 2001 (Net income = 0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1960" y="3471480"/>
            <a:ext cx="7480080" cy="129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company would still have to finance its increase in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happens if fixed assets are depreciated over 7 years (as opposed to the current 10 years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23400" y="2952360"/>
            <a:ext cx="7504200" cy="35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effect on physical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 assets on balance sheet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payments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policies tha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n affect financial statemen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0440" y="3016080"/>
            <a:ext cx="7504200" cy="23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valuation metho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ization of R&amp;D expen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ies for funding the company’s retirement pla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’s positive stock price ($2.25), in the face of large losses, suggest that investors are irrational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6720" y="3457080"/>
            <a:ext cx="6551640" cy="22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it means that investors expect things to get better in the futu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y did the stock price fal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fter the dividend was cut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7713720" cy="30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was “signaling” that the firm’s operations were in trou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idend cut lowered investors’ expectations for future cash flows, which caused the stock price to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ere some other sources of financing used in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2440" y="2322000"/>
            <a:ext cx="7899120" cy="415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lling financial asse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hort term investments decreased by $4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nk loan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Notes payable increased by $520,0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redit from supplier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/P increased by $378,5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mploye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ccruals increased by $353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9200" y="774720"/>
            <a:ext cx="7721640" cy="109224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effect of the $346,624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credit received in 2001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34520" y="2425680"/>
            <a:ext cx="829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s suggests the company paid at least $346,624 in taxes during the past 2 year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payments over the past 2 years were less than $346,624 the firm would have had to carry forward the amount of its loss that was not carried back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firm did not receive a full refund its cash position would be even wors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18640" y="37242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733,7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770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iabilities and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44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9568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2760" y="2550960"/>
            <a:ext cx="291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t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496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4,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1452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5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8520" y="2941560"/>
            <a:ext cx="293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6496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2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1452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960" y="3333600"/>
            <a:ext cx="189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8640" y="33336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9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84120" y="33336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8520" y="372420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14520" y="37242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1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4114800"/>
            <a:ext cx="316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term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8640" y="41148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4520" y="41148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,4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240" y="4505400"/>
            <a:ext cx="3116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6496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1452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7800" y="4897440"/>
            <a:ext cx="370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489744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60360" y="48974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8160" y="5288040"/>
            <a:ext cx="302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42760" y="52880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8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0360" y="52880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6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8880" y="5678640"/>
            <a:ext cx="207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L&amp;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86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6,5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444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468,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19360" y="2629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19360" y="3809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00280" y="5353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19360" y="57531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19360" y="61340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19360" y="62103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553080" y="26290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3809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534000" y="535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553080" y="57531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553080" y="613404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62103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711360"/>
            <a:ext cx="792504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762120"/>
            <a:ext cx="7925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Tax Year Single Individua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240" y="188604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68520" y="188604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46000" y="188604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1480" y="25970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04840" y="25970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7600" y="25970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1480" y="30700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,620 - 63,5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80800" y="3068640"/>
            <a:ext cx="1760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937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0" y="30700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1120" y="354168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,550 - 132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63360" y="3541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,381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7600" y="35416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1120" y="401652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600 -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63360" y="4016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,78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7600" y="4016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1480" y="4489560"/>
            <a:ext cx="2687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1280" y="4495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,85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7240" y="4489560"/>
            <a:ext cx="13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7432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your salary is $45,000, and you received $3,000 in dividends.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ou are single, so your personal exemption is $2,800 and your itemized deductions are $4,550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899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the basis of the information above and the 2000 tax year tax rate schedule, what is your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2800" y="804960"/>
            <a:ext cx="769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lculation of 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8680" y="2386080"/>
            <a:ext cx="140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6000" y="2386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880" y="3014640"/>
            <a:ext cx="212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0600" y="30146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6520" y="3641760"/>
            <a:ext cx="426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exe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55280" y="364176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,8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160" y="4272120"/>
            <a:ext cx="239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61400" y="427212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,5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7240" y="49006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79880" y="49006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81680" y="4800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54100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5486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923400" y="1905120"/>
            <a:ext cx="753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Liabilit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3,937.50 + 0.28($14,4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,969.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al Tax Rate =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8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Tax Rat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rate =                 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.6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59480" y="880920"/>
            <a:ext cx="3587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 - $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5759280" y="1712520"/>
            <a:ext cx="838440" cy="460440"/>
          </a:xfrm>
          <a:prstGeom prst="rightArrow">
            <a:avLst>
              <a:gd name="adj1" fmla="val 50000"/>
              <a:gd name="adj2" fmla="val 91056"/>
            </a:avLst>
          </a:prstGeom>
          <a:solidFill>
            <a:srgbClr val="fafd00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2760" y="4873680"/>
            <a:ext cx="19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$9,969.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9040" y="79524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Corporate 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7240" y="17668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8520" y="17668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46000" y="176688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7600" y="24782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01680" y="24782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67600" y="24782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7600" y="29512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,000 - 7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9680" y="295128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7600" y="29512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7240" y="342252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,000 - 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3960" y="342252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,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7600" y="3422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7600" y="389736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 - 33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83960" y="389736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7600" y="389736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7600" y="4680000"/>
            <a:ext cx="234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18.3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3800" y="468000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4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7600" y="468000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000" y="4243320"/>
            <a:ext cx="696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                     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...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21337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a corporation has $100,000 of taxable income from operations, $5,000 of interest income, and $10,000 of dividend incom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s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895320"/>
            <a:ext cx="36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69840" y="89532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6880" y="14018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48080" y="14018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908000"/>
            <a:ext cx="347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divid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7960" y="2298600"/>
            <a:ext cx="160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57440" y="2298600"/>
            <a:ext cx="13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7240" y="268920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69840" y="26892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7240" y="3701880"/>
            <a:ext cx="57898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22,250 + 0.39 ($8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25,3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4720" y="5221440"/>
            <a:ext cx="66553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Dividends - Ex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0,000 - 0.7($10,000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,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43640" y="31939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43640" y="3276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43640" y="280188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71640" y="2577600"/>
            <a:ext cx="743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and local government bonds (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unicip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“munis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re generally exempt from federal tax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able versus Tax Exempt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82760" y="1523880"/>
            <a:ext cx="833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 bonds at 10% versus California muni bonds at 7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= Tax rate = 28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-tax interest incom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 - 0.10($5,000)(0.2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528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(0.72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 = 0.07($5,000) - 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5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152360" y="2558520"/>
            <a:ext cx="6824880" cy="33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e for T in this equa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ni yie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Corp Yield(1-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0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10.0%(1-T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0.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9040" y="762120"/>
            <a:ext cx="7723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t what tax rate would you be indifferent between the muni and the corporate b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53200" y="565452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2600" y="2104920"/>
            <a:ext cx="124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6644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834,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568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432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160" y="2495520"/>
            <a:ext cx="1380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44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72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568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4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" y="2886120"/>
            <a:ext cx="322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0628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8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9552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5760" y="327672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6644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5568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720" y="3666960"/>
            <a:ext cx="338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. op.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6644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,524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568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222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1880" y="409104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7320" y="4091040"/>
            <a:ext cx="191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690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95520" y="409104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9,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4680" y="44830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ex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7912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836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2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880" y="4873680"/>
            <a:ext cx="155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53200" y="48736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66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5680" y="4873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6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1520" y="5264280"/>
            <a:ext cx="252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es (4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53200" y="52642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46,6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5680" y="52642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8,6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1520" y="56545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55680" y="5654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7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060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932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419360" y="21337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419360" y="37339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360" y="41148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419360" y="4952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19360" y="5715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19360" y="6095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6172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629400" y="2133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629400" y="3733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629400" y="4114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29400" y="4952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629400" y="5715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6095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629400" y="6172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969480" y="2593800"/>
            <a:ext cx="7558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gt; 30%, buy tax exempt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lt; 30%, buy corporate bon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high income, and hence high tax bracket, individuals should buy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680" y="3070080"/>
            <a:ext cx="275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. of sh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5088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9536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9840" y="3699000"/>
            <a:ext cx="99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2600" y="3699000"/>
            <a:ext cx="16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5.1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09720" y="369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9840" y="4329000"/>
            <a:ext cx="101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80920" y="432900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09720" y="432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8760" y="49579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900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2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0972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8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8760" y="5587920"/>
            <a:ext cx="2415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se pm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5088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9536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1772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900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2308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856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Retained Earnings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480" y="2471760"/>
            <a:ext cx="80712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0                   $203,76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:  Net income, 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:  Dividends p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1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8160" y="5827680"/>
            <a:ext cx="1702080" cy="23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7880" y="592596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7880" y="467820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711360"/>
            <a:ext cx="792504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Cash Flows:  2001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ustme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iation                          116,9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80,9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inventor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72,1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P378,5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ccruals               353,6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provided by op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5562720"/>
            <a:ext cx="19684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23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400800" y="4191120"/>
            <a:ext cx="1968480" cy="457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1143000"/>
            <a:ext cx="19684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6095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6172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-T INVESTIN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 in fixed assets      (711,95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s-t investm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,6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notes pay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0,0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76,568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ment of cash dividends     (11,0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financ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234,168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:  net change in cash          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(1,71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us:  cash at beginning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,0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at end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28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60520" y="2590920"/>
            <a:ext cx="8354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operations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523,93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ainly because of negative net inco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m borrowe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85,56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sol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short-term investments to meet its cash requiremen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after borrowing, the cash account fell by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7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76212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can you conclude about the company’s financial condition from its statement of cash flow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2T07:26:23Z</dcterms:created>
  <dc:creator>Mike Ehrhardt</dc:creator>
  <dc:description/>
  <dc:language>en-US</dc:language>
  <cp:lastModifiedBy>Brian E. Moffitt</cp:lastModifiedBy>
  <cp:lastPrinted>1998-05-27T15:19:04Z</cp:lastPrinted>
  <dcterms:modified xsi:type="dcterms:W3CDTF">2001-05-15T16:49:20Z</dcterms:modified>
  <cp:revision>70</cp:revision>
  <dc:subject>Powerpoint Show</dc:subject>
  <dc:title>FM10 Ch 02</dc:title>
</cp:coreProperties>
</file>